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07250" cy="7207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6131-6DD8-484B-9109-9DB4EDFF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806-58C5-4272-8CCC-D3E748A5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753-5510-4269-BA32-55F32778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312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588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312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4588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B8E-AA67-4ED7-B1BF-E8F8C2E7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E9A-16CB-4443-B6AA-55B18812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183B-4BAF-4E4C-9D27-FCB8C175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71F-271F-4B70-9CFE-83416FCD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8A1-9DAD-43D4-AF2D-A62E7E95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288720"/>
            <a:ext cx="648504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5ED-BA57-43BD-9669-EFFB4AA4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FA5-956D-4F75-ABB9-578A4091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D061-7F9D-492F-9813-E7E880F9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74EC-E2A9-4C45-B0E7-87865BE2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036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1680" y="6678360"/>
            <a:ext cx="228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6420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8D933F-DB5D-440C-9FED-184BC54D8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90520" y="290520"/>
            <a:ext cx="6642000" cy="6642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 rot="10800000">
            <a:off x="1239480" y="1299960"/>
            <a:ext cx="795240" cy="21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651200" y="4224240"/>
            <a:ext cx="795600" cy="218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39840" y="3489480"/>
            <a:ext cx="4206960" cy="734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3T13:44:51Z</dcterms:created>
  <dc:creator>t</dc:creator>
  <dc:description/>
  <dc:language>en-US</dc:language>
  <cp:lastModifiedBy>t</cp:lastModifiedBy>
  <dcterms:modified xsi:type="dcterms:W3CDTF">2018-05-23T13:59:07Z</dcterms:modified>
  <cp:revision>5</cp:revision>
  <dc:subject/>
  <dc:title>PowerPoint Presentation</dc:title>
</cp:coreProperties>
</file>